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rbrake.wav" ContentType="audio/x-wav"/>
  <Override PartName="/ppt/media/chimes.wav" ContentType="audio/x-wav"/>
  <Override PartName="/ppt/media/image9.jpeg" ContentType="image/jpeg"/>
  <Override PartName="/ppt/media/image11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applause.wav" ContentType="audio/x-wav"/>
  <Override PartName="/ppt/media/image7.jpeg" ContentType="image/jpe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5FC-C137-4E26-AF9B-49F7CE8C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71C-5E8A-480C-941B-10AE076C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66A-1A38-4350-B0A0-693A6C7F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1FB-6E2B-431E-A3C3-CE01166E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744-A2A9-459B-8AD8-832EEC30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121-37DE-4B50-B338-13974DEA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CFE-60B4-4967-94AB-EEFDB5FB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F97-0316-489F-B73C-D1642F6F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308-9A0D-4B0B-A2F7-E451E680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94F-F96C-432F-BA6D-D873C865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6BF-027F-4FD8-A21E-AD91991E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A18-05B7-4FB7-9DF9-47B1D10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C65F-E0AC-4F21-9564-90908EF364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00"/>
                </a:solidFill>
                <a:latin typeface="Times New Roman"/>
              </a:rPr>
              <a:t>Welcome to my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40480" y="4540320"/>
            <a:ext cx="485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By Wang Y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ior Class2, Grade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ank for one’s hel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for all your hel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’s very kind of you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 you from the bottom of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y than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nks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fuse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,th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can manage it myself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all the sa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nk you any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t out the following situatio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4200" y="838080"/>
            <a:ext cx="655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tudents’ activiti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3389400"/>
            <a:ext cx="3673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1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An old man is carrying a very heavy suitca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62520" y="2514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ituation2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body is late for a flight and wants to go ahead of the que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ituation3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old and sick person is on a crowded bus and wants to sit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4648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unfair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u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f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公平的，不公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fair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不公正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and squar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明正大地， 公正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air  pla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平竞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g: This is a good game and they beat u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ai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d squa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Key words to reme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管理，经营（尤指商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 hote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营一家餐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manag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the money very wel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她很善于理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nage to d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功地应付（问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box is heavy, but I can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age to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r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nag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过去时通常指尝试去做并且成功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 to see him in prison and gave him the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he _________ to see him in prison, but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6840" y="4854600"/>
            <a:ext cx="16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n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360" y="5715000"/>
            <a:ext cx="111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685800" y="-1676520"/>
            <a:ext cx="10366200" cy="1036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ff66"/>
                </a:solidFill>
                <a:latin typeface="Lucida Console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1879560" cy="5378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1219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298764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Impact"/>
              </a:rPr>
              <a:t>BODY LANGUAG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2370240"/>
            <a:ext cx="5334120" cy="448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Warming up:</a:t>
            </a:r>
            <a:br>
              <a:rPr sz="4400"/>
            </a:b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What is body languag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way to communicate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ithout word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sometimes more than wor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n you understand the meaning of the following  ges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2590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73400" y="54864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ictory/W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4680" y="5486400"/>
            <a:ext cx="311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ise/Grea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00" y="4800600"/>
            <a:ext cx="48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ndshak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riend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8006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ake a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en you are walking in a street alone,suddenly you fi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omething terribl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maybe it’s a piece of human skin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’re watching a film in the cinema. You enjoy the film very much, but the man sitting in front of you is talking all the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w do you use body language to express the following situatio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You want to hear somebody more clearl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 the English class, you want to sleep very much, but you don’t want your teacher to know that you are slee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offer hel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 I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can I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some hel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nything I can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 you let me give you a h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uld you like me to help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all I help you with that?  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eaking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k for hel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use me, could you help me with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re anyone who can help 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give me a hand,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ld you help me plea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14:12:47Z</dcterms:created>
  <dc:creator>myth</dc:creator>
  <dc:description/>
  <dc:language>en-US</dc:language>
  <cp:lastModifiedBy>zeng</cp:lastModifiedBy>
  <dcterms:modified xsi:type="dcterms:W3CDTF">2004-06-13T11:24:36Z</dcterms:modified>
  <cp:revision>15</cp:revision>
  <dc:subject/>
  <dc:title>Welcome to my class!</dc:title>
</cp:coreProperties>
</file>